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23DC-4D72-4568-9481-648BA2BA4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7318-A88A-4FF0-ABE0-8D34D655A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DDE6-E276-4567-A385-49D109C59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ACA3-8FEE-4409-8295-86138EC1B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8B7AE-506D-4AA9-A3FC-6FA23E16C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E75D9-1974-4FD6-A3C6-DBD696407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E5DEF-C429-41B2-9AA5-7C440680D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6FC00-831A-4D42-A7A7-EC45D9C6B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2C4E8-4565-441F-AC08-5FD1C02A9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F9F1A-F4EB-4323-A701-1407ED50A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B2030-8574-41FB-92A9-078B9789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CFEE-D240-478B-A1B9-4ABDE10F4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9998B-CD08-4E2A-9608-96CFD0DB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7861B-F1BD-4514-B6F3-CD7E3683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3FEDD-FB6A-42AB-AE40-055FD0621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E24F7-E00D-44D9-B17A-572748164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0C78E-3A70-4B6F-BA41-77B11E5B6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D203-031C-4446-B147-950E39A94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2334-E68E-4339-86DF-0ECFD36D9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C2B4-12EB-4A12-B6C6-60FBA82BB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243B-B425-4CD7-9BFF-D0858C8E2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B25A-4BCA-4FAD-9A80-0400FAB3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007A-1664-4C8B-BA7D-D8D66CD6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C600-4673-4A39-AFE5-AE5F150B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4000" cy="1905120"/>
            </a:xfrm>
            <a:prstGeom prst="rect">
              <a:avLst/>
            </a:prstGeom>
            <a:gradFill rotWithShape="0">
              <a:gsLst>
                <a:gs pos="0">
                  <a:srgbClr val="a38d77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pic>
          <p:nvPicPr>
            <p:cNvPr id="3" name="URBBANND" descr=""/>
            <p:cNvPicPr/>
            <p:nvPr/>
          </p:nvPicPr>
          <p:blipFill>
            <a:blip r:embed="rId2"/>
            <a:srcRect l="0" t="66688" r="0" b="0"/>
            <a:stretch/>
          </p:blipFill>
          <p:spPr>
            <a:xfrm>
              <a:off x="0" y="0"/>
              <a:ext cx="914400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eae8e2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3AA52-D5FD-49E8-ADAD-FEED3961F0EF}" type="slidenum"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0" y="1143000"/>
              <a:ext cx="9144000" cy="13716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pic>
          <p:nvPicPr>
            <p:cNvPr id="48" name="URBBANND" descr=""/>
            <p:cNvPicPr/>
            <p:nvPr/>
          </p:nvPicPr>
          <p:blipFill>
            <a:blip r:embed="rId2"/>
            <a:srcRect l="5827" t="8501" r="35924" b="0"/>
            <a:stretch/>
          </p:blipFill>
          <p:spPr>
            <a:xfrm>
              <a:off x="0" y="0"/>
              <a:ext cx="9144000" cy="143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1F3DE-5D12-4E14-88F7-598DF7734DB8}" type="slidenum"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eae8e2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240" y="2437920"/>
            <a:ext cx="6248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dbc03"/>
                </a:solidFill>
                <a:latin typeface="Impact"/>
              </a:rPr>
              <a:t>Symmetry &amp; Body Plan</a:t>
            </a:r>
            <a:endParaRPr b="0" lang="en-US" sz="50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dbc03"/>
                </a:solidFill>
                <a:latin typeface="Arial Black"/>
              </a:rPr>
              <a:t>4.   Posterior:</a:t>
            </a:r>
            <a:endParaRPr b="0" lang="en-US" sz="50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47920" y="1295280"/>
            <a:ext cx="3047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dbc03"/>
                </a:solidFill>
                <a:latin typeface="Arial Black"/>
              </a:rPr>
              <a:t>tail end</a:t>
            </a:r>
            <a:endParaRPr b="0" lang="en-US" sz="4900" spc="-1" strike="noStrike">
              <a:solidFill>
                <a:srgbClr val="eae8e2"/>
              </a:solidFill>
              <a:latin typeface="Arial Narrow"/>
            </a:endParaRPr>
          </a:p>
        </p:txBody>
      </p:sp>
      <p:pic>
        <p:nvPicPr>
          <p:cNvPr id="122" name="HorseSymm" descr=""/>
          <p:cNvPicPr/>
          <p:nvPr/>
        </p:nvPicPr>
        <p:blipFill>
          <a:blip r:embed="rId1"/>
          <a:stretch/>
        </p:blipFill>
        <p:spPr>
          <a:xfrm>
            <a:off x="1752480" y="2438280"/>
            <a:ext cx="4678560" cy="417528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6019920" y="3886200"/>
            <a:ext cx="2895480" cy="627480"/>
            <a:chOff x="6019920" y="3886200"/>
            <a:chExt cx="2895480" cy="627480"/>
          </a:xfrm>
        </p:grpSpPr>
        <p:sp>
          <p:nvSpPr>
            <p:cNvPr id="124" name=""/>
            <p:cNvSpPr/>
            <p:nvPr/>
          </p:nvSpPr>
          <p:spPr>
            <a:xfrm>
              <a:off x="7086600" y="3886200"/>
              <a:ext cx="182880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fdbc03"/>
                  </a:solidFill>
                  <a:latin typeface="Times New Roman"/>
                </a:rPr>
                <a:t>Posterior</a:t>
              </a:r>
              <a:endParaRPr b="0" lang="en-US" sz="35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6019920" y="4191120"/>
              <a:ext cx="914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8120" y="761760"/>
            <a:ext cx="2209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dbc03"/>
                </a:solidFill>
                <a:latin typeface="Impact"/>
              </a:rPr>
              <a:t>Radial</a:t>
            </a:r>
            <a:endParaRPr b="0" lang="en-US" sz="5000" spc="-1" strike="noStrike">
              <a:solidFill>
                <a:srgbClr val="fdbc03"/>
              </a:solidFill>
              <a:latin typeface="Impact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666880" y="2666880"/>
            <a:ext cx="297180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95480" y="761760"/>
            <a:ext cx="3200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dbc03"/>
                </a:solidFill>
                <a:latin typeface="Impact"/>
              </a:rPr>
              <a:t>Bilateral</a:t>
            </a:r>
            <a:endParaRPr b="0" lang="en-US" sz="5000" spc="-1" strike="noStrike">
              <a:solidFill>
                <a:srgbClr val="fdbc03"/>
              </a:solidFill>
              <a:latin typeface="Impact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514600" y="2519280"/>
            <a:ext cx="320040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19160" y="761760"/>
            <a:ext cx="2819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dbc03"/>
                </a:solidFill>
                <a:latin typeface="Impact"/>
              </a:rPr>
              <a:t>Spherical</a:t>
            </a:r>
            <a:endParaRPr b="0" lang="en-US" sz="5000" spc="-1" strike="noStrike">
              <a:solidFill>
                <a:srgbClr val="fdbc03"/>
              </a:solidFill>
              <a:latin typeface="Impact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666880" y="2438280"/>
            <a:ext cx="277524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43200" y="837720"/>
            <a:ext cx="3200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dbc03"/>
                </a:solidFill>
                <a:latin typeface="Impact"/>
              </a:rPr>
              <a:t>Asymmetry</a:t>
            </a:r>
            <a:endParaRPr b="0" lang="en-US" sz="5000" spc="-1" strike="noStrike">
              <a:solidFill>
                <a:srgbClr val="fdbc03"/>
              </a:solidFill>
              <a:latin typeface="Impact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286000" y="2514600"/>
            <a:ext cx="385272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504960" y="914040"/>
            <a:ext cx="2514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dbc03"/>
                </a:solidFill>
                <a:latin typeface="Impact"/>
              </a:rPr>
              <a:t>Radial</a:t>
            </a:r>
            <a:endParaRPr b="0" lang="en-US" sz="5000" spc="-1" strike="noStrike">
              <a:solidFill>
                <a:srgbClr val="fdbc03"/>
              </a:solidFill>
              <a:latin typeface="Impact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048120" y="2676600"/>
            <a:ext cx="327636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971800" y="761760"/>
            <a:ext cx="2819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dbc03"/>
                </a:solidFill>
                <a:latin typeface="Impact"/>
              </a:rPr>
              <a:t>Bilateral</a:t>
            </a:r>
            <a:endParaRPr b="0" lang="en-US" sz="5000" spc="-1" strike="noStrike">
              <a:solidFill>
                <a:srgbClr val="fdbc03"/>
              </a:solidFill>
              <a:latin typeface="Impact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514600" y="2743200"/>
            <a:ext cx="358128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95120" y="685440"/>
            <a:ext cx="3429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dbc03"/>
                </a:solidFill>
                <a:latin typeface="Impact"/>
              </a:rPr>
              <a:t>Asymmetry</a:t>
            </a:r>
            <a:endParaRPr b="0" lang="en-US" sz="5000" spc="-1" strike="noStrike">
              <a:solidFill>
                <a:srgbClr val="fdbc03"/>
              </a:solidFill>
              <a:latin typeface="Impact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743200" y="2057400"/>
            <a:ext cx="323208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dbc03"/>
                </a:solidFill>
                <a:latin typeface="Arial Black"/>
              </a:rPr>
              <a:t>Symmetry</a:t>
            </a:r>
            <a:endParaRPr b="0" lang="en-US" sz="50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    </a:t>
            </a:r>
            <a:r>
              <a:rPr b="0" lang="en-US" sz="4500" spc="-1" strike="noStrike">
                <a:solidFill>
                  <a:srgbClr val="fdbc03"/>
                </a:solidFill>
                <a:latin typeface="Arial Black"/>
                <a:ea typeface="Times New Roman"/>
              </a:rPr>
              <a:t>the arrangement of an organism’s body parts around a center point or line</a:t>
            </a:r>
            <a:r>
              <a:rPr b="1" lang="en-US" sz="4500" spc="-1" strike="noStrike">
                <a:solidFill>
                  <a:srgbClr val="fdbc03"/>
                </a:solidFill>
                <a:latin typeface="Arial Black"/>
                <a:ea typeface="Times New Roman"/>
              </a:rPr>
              <a:t> </a:t>
            </a:r>
            <a:endParaRPr b="0" lang="en-US" sz="45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7631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dbc03"/>
                </a:solidFill>
                <a:latin typeface="Arial Black"/>
                <a:ea typeface="Times New Roman"/>
              </a:rPr>
              <a:t>A.  Spherical Symmetry:</a:t>
            </a:r>
            <a:endParaRPr b="0" lang="en-US" sz="50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    </a:t>
            </a:r>
            <a:r>
              <a:rPr b="0" lang="en-US" sz="4500" spc="-1" strike="noStrike">
                <a:solidFill>
                  <a:srgbClr val="fdbc03"/>
                </a:solidFill>
                <a:latin typeface="Arial Black"/>
                <a:ea typeface="Times New Roman"/>
              </a:rPr>
              <a:t>round arrangement of body parts (very rare)</a:t>
            </a:r>
            <a:endParaRPr b="0" lang="en-US" sz="45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dbc03"/>
                </a:solidFill>
                <a:latin typeface="Arial Black"/>
                <a:ea typeface="Times New Roman"/>
              </a:rPr>
              <a:t>B.  Radial Symmetry:</a:t>
            </a:r>
            <a:endParaRPr b="0" lang="en-US" sz="50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251460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      </a:t>
            </a:r>
            <a:r>
              <a:rPr b="0" lang="en-US" sz="4500" spc="-1" strike="noStrike">
                <a:solidFill>
                  <a:srgbClr val="fdbc03"/>
                </a:solidFill>
                <a:latin typeface="Arial Black"/>
                <a:ea typeface="Times New Roman"/>
              </a:rPr>
              <a:t>body parts are arranged around a central point, like spokes on a wheel</a:t>
            </a:r>
            <a:endParaRPr b="0" lang="en-US" sz="4500" spc="-1" strike="noStrike">
              <a:solidFill>
                <a:srgbClr val="eae8e2"/>
              </a:solidFill>
              <a:latin typeface="Arial Narrow"/>
            </a:endParaRPr>
          </a:p>
          <a:p>
            <a:pPr marL="28116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dbc03"/>
                </a:solidFill>
                <a:latin typeface="Arial Black"/>
                <a:ea typeface="Times New Roman"/>
              </a:rPr>
              <a:t>C.</a:t>
            </a:r>
            <a:r>
              <a:rPr b="0" lang="en-US" sz="5000" spc="-1" strike="noStrike">
                <a:solidFill>
                  <a:srgbClr val="fdbc03"/>
                </a:solidFill>
                <a:latin typeface="Arial Black"/>
                <a:ea typeface="Times New Roman"/>
              </a:rPr>
              <a:t>   Asymmetry:</a:t>
            </a:r>
            <a:endParaRPr b="0" lang="en-US" sz="50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360" y="2285640"/>
            <a:ext cx="6629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dbc03"/>
                </a:solidFill>
                <a:latin typeface="Arial Black"/>
                <a:ea typeface="Times New Roman"/>
              </a:rPr>
              <a:t>no definite shape (rare)</a:t>
            </a:r>
            <a:endParaRPr b="0" lang="en-US" sz="49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dbc03"/>
                </a:solidFill>
                <a:latin typeface="Arial Black"/>
                <a:ea typeface="Times New Roman"/>
              </a:rPr>
              <a:t>D.   Bilateral Symmetry:</a:t>
            </a:r>
            <a:endParaRPr b="0" lang="en-US" sz="50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 </a:t>
            </a:r>
            <a:r>
              <a:rPr b="0" lang="en-US" sz="4500" spc="-1" strike="noStrike">
                <a:solidFill>
                  <a:srgbClr val="fdbc03"/>
                </a:solidFill>
                <a:latin typeface="Arial Black"/>
                <a:ea typeface="Times New Roman"/>
              </a:rPr>
              <a:t>one-half of the body is a mirror image of the other half</a:t>
            </a:r>
            <a:endParaRPr b="0" lang="en-US" sz="45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dbc03"/>
                </a:solidFill>
                <a:latin typeface="Arial Black"/>
              </a:rPr>
              <a:t>1.   Dorsal:</a:t>
            </a:r>
            <a:endParaRPr b="0" lang="en-US" sz="50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295280"/>
            <a:ext cx="731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dbc03"/>
                </a:solidFill>
                <a:latin typeface="Arial Black"/>
                <a:ea typeface="Times New Roman"/>
              </a:rPr>
              <a:t>the upper surface (back)</a:t>
            </a:r>
            <a:endParaRPr b="0" lang="en-US" sz="4100" spc="-1" strike="noStrike">
              <a:solidFill>
                <a:srgbClr val="eae8e2"/>
              </a:solidFill>
              <a:latin typeface="Arial Narrow"/>
            </a:endParaRPr>
          </a:p>
        </p:txBody>
      </p:sp>
      <p:pic>
        <p:nvPicPr>
          <p:cNvPr id="104" name="HorseSymm" descr=""/>
          <p:cNvPicPr/>
          <p:nvPr/>
        </p:nvPicPr>
        <p:blipFill>
          <a:blip r:embed="rId1"/>
          <a:stretch/>
        </p:blipFill>
        <p:spPr>
          <a:xfrm>
            <a:off x="2362320" y="2682720"/>
            <a:ext cx="4678200" cy="4175280"/>
          </a:xfrm>
          <a:prstGeom prst="rect">
            <a:avLst/>
          </a:prstGeom>
          <a:ln w="0">
            <a:noFill/>
          </a:ln>
        </p:spPr>
      </p:pic>
      <p:grpSp>
        <p:nvGrpSpPr>
          <p:cNvPr id="105" name=""/>
          <p:cNvGrpSpPr/>
          <p:nvPr/>
        </p:nvGrpSpPr>
        <p:grpSpPr>
          <a:xfrm>
            <a:off x="4191120" y="2057400"/>
            <a:ext cx="2133360" cy="1752480"/>
            <a:chOff x="4191120" y="2057400"/>
            <a:chExt cx="2133360" cy="1752480"/>
          </a:xfrm>
        </p:grpSpPr>
        <p:sp>
          <p:nvSpPr>
            <p:cNvPr id="106" name=""/>
            <p:cNvSpPr/>
            <p:nvPr/>
          </p:nvSpPr>
          <p:spPr>
            <a:xfrm>
              <a:off x="5029200" y="2743200"/>
              <a:ext cx="0" cy="106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191120" y="2057400"/>
              <a:ext cx="213336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8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500" spc="-1" strike="noStrike">
                  <a:solidFill>
                    <a:srgbClr val="fdbc03"/>
                  </a:solidFill>
                  <a:latin typeface="Times New Roman"/>
                </a:rPr>
                <a:t>Dorsal</a:t>
              </a:r>
              <a:endParaRPr b="0" lang="en-US" sz="45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dbc03"/>
                </a:solidFill>
                <a:latin typeface="Arial Black"/>
              </a:rPr>
              <a:t>2.   Ventral:</a:t>
            </a:r>
            <a:endParaRPr b="0" lang="en-US" sz="50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47920" y="12189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dbc03"/>
                </a:solidFill>
                <a:latin typeface="Arial Black"/>
                <a:ea typeface="Times New Roman"/>
              </a:rPr>
              <a:t>the lower surface (belly)</a:t>
            </a:r>
            <a:endParaRPr b="0" lang="en-US" sz="41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ae8e2"/>
              </a:solidFill>
              <a:latin typeface="Arial Narrow"/>
            </a:endParaRPr>
          </a:p>
        </p:txBody>
      </p:sp>
      <p:pic>
        <p:nvPicPr>
          <p:cNvPr id="110" name="HorseSymm" descr=""/>
          <p:cNvPicPr/>
          <p:nvPr/>
        </p:nvPicPr>
        <p:blipFill>
          <a:blip r:embed="rId1"/>
          <a:stretch/>
        </p:blipFill>
        <p:spPr>
          <a:xfrm>
            <a:off x="2133720" y="1981080"/>
            <a:ext cx="4678200" cy="4175280"/>
          </a:xfrm>
          <a:prstGeom prst="rect">
            <a:avLst/>
          </a:prstGeom>
          <a:ln w="0">
            <a:noFill/>
          </a:ln>
        </p:spPr>
      </p:pic>
      <p:grpSp>
        <p:nvGrpSpPr>
          <p:cNvPr id="111" name=""/>
          <p:cNvGrpSpPr/>
          <p:nvPr/>
        </p:nvGrpSpPr>
        <p:grpSpPr>
          <a:xfrm>
            <a:off x="4038480" y="4343400"/>
            <a:ext cx="2590920" cy="2516400"/>
            <a:chOff x="4038480" y="4343400"/>
            <a:chExt cx="2590920" cy="2516400"/>
          </a:xfrm>
        </p:grpSpPr>
        <p:sp>
          <p:nvSpPr>
            <p:cNvPr id="112" name=""/>
            <p:cNvSpPr/>
            <p:nvPr/>
          </p:nvSpPr>
          <p:spPr>
            <a:xfrm flipV="1">
              <a:off x="4876920" y="4343400"/>
              <a:ext cx="0" cy="1828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038480" y="6080040"/>
              <a:ext cx="25909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8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500" spc="-1" strike="noStrike">
                  <a:solidFill>
                    <a:srgbClr val="fdbc03"/>
                  </a:solidFill>
                  <a:latin typeface="Times New Roman"/>
                </a:rPr>
                <a:t>Ventral</a:t>
              </a:r>
              <a:endParaRPr b="0" lang="en-US" sz="45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dbc03"/>
                </a:solidFill>
                <a:latin typeface="Arial Black"/>
                <a:ea typeface="Times New Roman"/>
              </a:rPr>
              <a:t>3.  </a:t>
            </a:r>
            <a:r>
              <a:rPr b="1" lang="en-US" sz="5000" spc="-1" strike="noStrike">
                <a:solidFill>
                  <a:srgbClr val="fdbc03"/>
                </a:solidFill>
                <a:latin typeface="Arial Black"/>
                <a:ea typeface="Times New Roman"/>
              </a:rPr>
              <a:t>Anterior:</a:t>
            </a:r>
            <a:endParaRPr b="0" lang="en-US" sz="50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5715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dbc03"/>
                </a:solidFill>
                <a:latin typeface="Arial Narrow"/>
                <a:ea typeface="Times New Roman"/>
              </a:rPr>
              <a:t>  </a:t>
            </a:r>
            <a:r>
              <a:rPr b="0" lang="en-US" sz="4500" spc="-1" strike="noStrike">
                <a:solidFill>
                  <a:srgbClr val="fdbc03"/>
                </a:solidFill>
                <a:latin typeface="Arial Black"/>
                <a:ea typeface="Times New Roman"/>
              </a:rPr>
              <a:t>front end (head)</a:t>
            </a:r>
            <a:endParaRPr b="0" lang="en-US" sz="4500" spc="-1" strike="noStrike">
              <a:solidFill>
                <a:srgbClr val="eae8e2"/>
              </a:solidFill>
              <a:latin typeface="Arial Narrow"/>
            </a:endParaRPr>
          </a:p>
        </p:txBody>
      </p:sp>
      <p:pic>
        <p:nvPicPr>
          <p:cNvPr id="116" name="HorseSymm" descr=""/>
          <p:cNvPicPr/>
          <p:nvPr/>
        </p:nvPicPr>
        <p:blipFill>
          <a:blip r:embed="rId1"/>
          <a:stretch/>
        </p:blipFill>
        <p:spPr>
          <a:xfrm>
            <a:off x="4465800" y="2682720"/>
            <a:ext cx="4678200" cy="4175280"/>
          </a:xfrm>
          <a:prstGeom prst="rect">
            <a:avLst/>
          </a:prstGeom>
          <a:ln w="0">
            <a:noFill/>
          </a:ln>
        </p:spPr>
      </p:pic>
      <p:grpSp>
        <p:nvGrpSpPr>
          <p:cNvPr id="117" name=""/>
          <p:cNvGrpSpPr/>
          <p:nvPr/>
        </p:nvGrpSpPr>
        <p:grpSpPr>
          <a:xfrm>
            <a:off x="762120" y="3352680"/>
            <a:ext cx="3657600" cy="703440"/>
            <a:chOff x="762120" y="3352680"/>
            <a:chExt cx="3657600" cy="703440"/>
          </a:xfrm>
        </p:grpSpPr>
        <p:sp>
          <p:nvSpPr>
            <p:cNvPr id="118" name=""/>
            <p:cNvSpPr/>
            <p:nvPr/>
          </p:nvSpPr>
          <p:spPr>
            <a:xfrm>
              <a:off x="762120" y="3352680"/>
              <a:ext cx="2209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dbc03"/>
                  </a:solidFill>
                  <a:latin typeface="Times New Roman"/>
                </a:rPr>
                <a:t>Anterior</a:t>
              </a:r>
              <a:endParaRPr b="0" lang="en-US" sz="40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666880" y="3809880"/>
              <a:ext cx="1752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21:25:12Z</dcterms:created>
  <dc:creator>Plano ISD</dc:creator>
  <dc:description/>
  <dc:language>en-US</dc:language>
  <cp:lastModifiedBy>Plano ISD</cp:lastModifiedBy>
  <dcterms:modified xsi:type="dcterms:W3CDTF">2004-02-11T19:59:35Z</dcterms:modified>
  <cp:revision>12</cp:revision>
  <dc:subject/>
  <dc:title>Symmetry &amp; Body Plan</dc:title>
</cp:coreProperties>
</file>